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1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8E5-5E76-4F67-A134-7C62F586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5D8-4B93-4800-ADB0-4A298505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383-A9E8-47B6-86F5-3024E6A2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CF4-C453-41C2-9BE3-D6DBB68E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8D6D-8812-4A70-99E8-ADFB74D4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31B3-CC43-4594-B098-54BCCB08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B60F-89B4-4436-A734-62C0B89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2238-7F06-4F19-8A32-EFDF856A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467-138C-487A-99B6-6B4145DC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82DD-5156-4C4A-AD5F-614A31EB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642D-1AE5-4A0F-BBCA-96E7E771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456-70A4-4714-ADF3-3900D721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B743-843C-4029-860C-2F508BEC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0FAD-8923-4FD4-8647-F564FA71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FAE7-C2B7-44E1-8754-21DBBF4A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7D8-C9A3-45D4-92A4-3F99B971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A7B3-FF61-4CBE-928F-8AFCDCC6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389-D719-4313-9E86-1CDBBE2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305-4DDA-42B7-B242-C8DA33F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662-15BC-4CE9-8D31-E1B850A1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810-BFE3-40AB-BB2D-1506C36B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966-C0CF-4D13-8428-26F8B30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E22-8C04-4A1C-A34E-DB8B5D02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0E2-158F-447A-B439-403298E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4FA75-347D-40D3-8256-DA27CD48D4C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4782F-9C16-4487-9BE7-9A5A7C4714F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131B6-EBF7-44C6-8229-F32286529D7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8190F-EDA6-4AC0-AF9C-5CC8633F3F2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4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ular Process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General Biolog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Processes with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tosynthesis – changing light energy to chemical energy - chloropla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ular Respiration – changing chemical energy into ATP - mitochondri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9" name="Picture 3" descr="respire.gif"/>
          <p:cNvPicPr/>
          <p:nvPr/>
        </p:nvPicPr>
        <p:blipFill>
          <a:blip r:embed="rId2"/>
          <a:stretch/>
        </p:blipFill>
        <p:spPr>
          <a:xfrm>
            <a:off x="4038480" y="5029200"/>
            <a:ext cx="4330800" cy="127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photosynthesis_reaction_eng.gif"/>
          <p:cNvPicPr/>
          <p:nvPr/>
        </p:nvPicPr>
        <p:blipFill>
          <a:blip r:embed="rId3"/>
          <a:stretch/>
        </p:blipFill>
        <p:spPr>
          <a:xfrm>
            <a:off x="838080" y="2789280"/>
            <a:ext cx="4953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mpare the reac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6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6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 +  Light           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1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 6 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1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 6 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  6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6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 +  ATP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are opposites!!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3538080" y="4107960"/>
            <a:ext cx="686520" cy="25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4419360" y="2513160"/>
            <a:ext cx="686520" cy="216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Image150.gif"/>
          <p:cNvPicPr/>
          <p:nvPr/>
        </p:nvPicPr>
        <p:blipFill>
          <a:blip r:embed="rId2"/>
          <a:stretch/>
        </p:blipFill>
        <p:spPr>
          <a:xfrm>
            <a:off x="2438280" y="0"/>
            <a:ext cx="47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hotosynthe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ght energy into chemical energy and Oxygen by chloroplas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ants, algae, and bacteri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two main reaction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.  Light dependent rea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.  Light Independent reaction (Calvin Cycl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8" name="Picture 3" descr="250px-BrambleLeaf_CrossPolarisedLight_Diagram.jpg"/>
          <p:cNvPicPr/>
          <p:nvPr/>
        </p:nvPicPr>
        <p:blipFill>
          <a:blip r:embed="rId2"/>
          <a:stretch/>
        </p:blipFill>
        <p:spPr>
          <a:xfrm>
            <a:off x="5692680" y="2286000"/>
            <a:ext cx="2381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avelengths of light absorb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rcRect l="0" t="0" r="0" b="63345"/>
          <a:stretch/>
        </p:blipFill>
        <p:spPr>
          <a:xfrm>
            <a:off x="590400" y="1444680"/>
            <a:ext cx="8001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hyll molecu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g. 100 in boo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4 types a, b, c, 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molecule absorbs most energ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2"/>
          <a:srcRect l="0" t="0" r="0" b="3446"/>
          <a:stretch/>
        </p:blipFill>
        <p:spPr>
          <a:xfrm>
            <a:off x="152280" y="380880"/>
            <a:ext cx="899172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Rea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ght requi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ergize chlorophyll a molecu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lorophyll a rips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molecu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is released as was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electrons leave the chlorophyll a molecul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cation:  electron transport chain in the thylakoid membran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kes ATP and NADP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Rea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tosystem II and Photosystem I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TE: Products are NADP is turned into NADP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P + P is turned into ATP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emiosmosis is the movement of Hydrogen ions caused by a concentration gradient (diffusion).  This creates the ATP as the H ions go through the ATP synthas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se are used in the Calvin cyc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rea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0" name="Content Placeholder 3" descr="500px-Thylakoid_membrane.png"/>
          <p:cNvPicPr/>
          <p:nvPr/>
        </p:nvPicPr>
        <p:blipFill>
          <a:blip r:embed="rId2"/>
          <a:srcRect l="-2766" t="0" r="-2766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Everything that lives and mov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will be food for you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Just as I gave you the green plants,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I now give you everyth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Genesis 9:3 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Independent Pha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lvin Cycle and Carbon Fix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lvin Calvin – nobel priz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cation: Stroma of chloropla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s ATP and NADP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“cycle” begins and ends with RuB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kes 2 PGAL molec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4" name="Content Placeholder 3" descr="calvin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6" name="Content Placeholder 3" descr="ccoverview.gif"/>
          <p:cNvPicPr/>
          <p:nvPr/>
        </p:nvPicPr>
        <p:blipFill>
          <a:blip r:embed="rId2"/>
          <a:srcRect l="-19433" t="0" r="-19433" b="0"/>
          <a:stretch/>
        </p:blipFill>
        <p:spPr>
          <a:xfrm>
            <a:off x="-1219320" y="108000"/>
            <a:ext cx="11287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8" name="Content Placeholder 3" descr="imgres15.gif"/>
          <p:cNvPicPr/>
          <p:nvPr/>
        </p:nvPicPr>
        <p:blipFill>
          <a:blip r:embed="rId2"/>
          <a:srcRect l="-21240" t="0" r="-21240" b="0"/>
          <a:stretch/>
        </p:blipFill>
        <p:spPr>
          <a:xfrm>
            <a:off x="-990720" y="0"/>
            <a:ext cx="11225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GA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sphoglyceraldehy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3 carbon molecule –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PGALs make a glucose, which is a 6 carbon molecu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w many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molecules to make a glucos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Key points to the Calvin Cyc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bisco is a major enzyme in the reac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BP – Ribulose BiPhoshate is the start and e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s only a series of chemical reactions that happen outside the Thylakoid in the the stro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PGALs make a glucose molecu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9 ATPs and 6 NADPH are used to make 1 PG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nditions for Photosynthe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rrect wavelengths and light intensit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ough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ight Tempera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lternate Pathway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3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pathway – the normal pathway, making 3 carbon molec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M pathway – only open stomata at nigh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4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pathway- open stomata partially, they can make 4 carbon molecul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0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6522193.gif"/>
          <p:cNvPicPr/>
          <p:nvPr/>
        </p:nvPicPr>
        <p:blipFill>
          <a:blip r:embed="rId2"/>
          <a:stretch/>
        </p:blipFill>
        <p:spPr>
          <a:xfrm>
            <a:off x="-23760" y="152280"/>
            <a:ext cx="9167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ts talk about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Content Placeholder 3" descr="lightning-over-water_270_600x450.jpg"/>
          <p:cNvPicPr/>
          <p:nvPr/>
        </p:nvPicPr>
        <p:blipFill>
          <a:blip r:embed="rId2"/>
          <a:srcRect l="-19433" t="0" r="-19433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8243726.jpg"/>
          <p:cNvPicPr/>
          <p:nvPr/>
        </p:nvPicPr>
        <p:blipFill>
          <a:blip r:embed="rId2"/>
          <a:stretch/>
        </p:blipFill>
        <p:spPr>
          <a:xfrm>
            <a:off x="210960" y="0"/>
            <a:ext cx="84758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27"/>
          <p:cNvSpPr/>
          <p:nvPr/>
        </p:nvSpPr>
        <p:spPr>
          <a:xfrm>
            <a:off x="2133720" y="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The 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-double membrane, stroma, thylakoid, g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ganism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utotrophs – make their own foo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0" name="Picture 3" descr="250px-Diversity_of_plants_image_version_5.png"/>
          <p:cNvPicPr/>
          <p:nvPr/>
        </p:nvPicPr>
        <p:blipFill>
          <a:blip r:embed="rId2"/>
          <a:stretch/>
        </p:blipFill>
        <p:spPr>
          <a:xfrm>
            <a:off x="609480" y="2212920"/>
            <a:ext cx="2971800" cy="440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a plant.gif"/>
          <p:cNvPicPr/>
          <p:nvPr/>
        </p:nvPicPr>
        <p:blipFill>
          <a:blip r:embed="rId3"/>
          <a:stretch/>
        </p:blipFill>
        <p:spPr>
          <a:xfrm>
            <a:off x="4495680" y="2201760"/>
            <a:ext cx="3886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ganism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eterotrophs – get energy from consuming other organisms as a food sour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4" name="Picture 3" descr="Best-National-Geographic-10.jpg"/>
          <p:cNvPicPr/>
          <p:nvPr/>
        </p:nvPicPr>
        <p:blipFill>
          <a:blip r:embed="rId2"/>
          <a:stretch/>
        </p:blipFill>
        <p:spPr>
          <a:xfrm>
            <a:off x="457200" y="2666880"/>
            <a:ext cx="317808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Best-National-Geographic-07.jpg"/>
          <p:cNvPicPr/>
          <p:nvPr/>
        </p:nvPicPr>
        <p:blipFill>
          <a:blip r:embed="rId3"/>
          <a:stretch/>
        </p:blipFill>
        <p:spPr>
          <a:xfrm>
            <a:off x="3809880" y="2671920"/>
            <a:ext cx="50799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– Energy Currenc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denosine Triphosphate – fuel for the cel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de of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denosin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3 phosphat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otential energ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nergy is in what part of the molecule??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BONDS!!!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P          ADP + P + Energy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drolysis reaction  - “breaking with wate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ergy released in the bon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>
            <a:off x="1676160" y="1902960"/>
            <a:ext cx="686520" cy="25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pic>
        <p:nvPicPr>
          <p:cNvPr id="101" name="Picture 7" descr="ATP_ADP.gif"/>
          <p:cNvPicPr/>
          <p:nvPr/>
        </p:nvPicPr>
        <p:blipFill>
          <a:blip r:embed="rId2"/>
          <a:stretch/>
        </p:blipFill>
        <p:spPr>
          <a:xfrm>
            <a:off x="152280" y="3565440"/>
            <a:ext cx="89917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Content Placeholder 3" descr="atp animation.gif"/>
          <p:cNvPicPr/>
          <p:nvPr/>
        </p:nvPicPr>
        <p:blipFill>
          <a:blip r:embed="rId2"/>
          <a:srcRect l="-40910" t="0" r="-40910" b="0"/>
          <a:stretch/>
        </p:blipFill>
        <p:spPr>
          <a:xfrm>
            <a:off x="-175248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Atp.gif"/>
          <p:cNvPicPr/>
          <p:nvPr/>
        </p:nvPicPr>
        <p:blipFill>
          <a:blip r:embed="rId3"/>
          <a:stretch/>
        </p:blipFill>
        <p:spPr>
          <a:xfrm>
            <a:off x="4822920" y="2209680"/>
            <a:ext cx="4321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Fun Fac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by each cell to be used by that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s not very stab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ing constantly made by our cel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4:32:14Z</dcterms:created>
  <dc:creator>Jason Cobb</dc:creator>
  <dc:description/>
  <dc:language>en-US</dc:language>
  <cp:lastModifiedBy>Jason Cobb</cp:lastModifiedBy>
  <dcterms:modified xsi:type="dcterms:W3CDTF">2011-11-06T22:38:49Z</dcterms:modified>
  <cp:revision>16</cp:revision>
  <dc:subject/>
  <dc:title>Chapter 4 Cellular Processes </dc:title>
</cp:coreProperties>
</file>